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B01-0F5E-4E5A-B0DA-9AC644DF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8EB-D859-4AF5-9CFC-891B2D2C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E92B7-C37D-4C4D-BF20-BC4F5DF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64320-BB71-4C98-A13A-4D8895F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6564E-9666-469E-A3E0-DE383591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BBE12-2CD6-4571-A5AE-46D651D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B0FD3-43A5-4721-99FD-879C178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00AC6-9850-4F6A-9E93-F0FBEFF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333C3-817A-4801-8706-D9F6CEA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6AC9C-27BD-420C-98BB-EBE1BA8D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A2550-011C-4C83-AE86-462ACC63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6D9A-74C2-4A1D-BD1D-DB70BEFE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F7B-25C6-4499-9157-6E95AC62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CB9F5-8A5A-44D5-B3EB-C1F12B22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A2DE0-8CA4-467E-B38B-36057A2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D2198-28BD-41F2-81C4-E4C02C2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6F54C-B30E-4F62-9406-ABC5D2A0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C9CB8-48E7-4C9B-980C-5DA58424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D7633-0A5E-4F0E-BD9A-9670614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3A76C-C58C-452C-B8A2-49BC58E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EA913-4FF5-498F-85E0-AADE321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C797D-BC2F-46D6-B927-8431685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96011-CB6E-4B49-B87D-AEE56D1B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356-D752-4DAC-BB04-037BE4C8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C74D1-8222-43DF-B24F-637CD598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E02D-D36C-4772-BC95-76E63FF9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965C-9D41-4D64-B4A5-8BC018FA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D480D-A50F-41E4-9274-2C1E08BD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CE48-FABE-4BCD-B6F9-ECC7548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7741A-7720-450C-8F18-78CA79FE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1163-4212-4BD7-9A7A-2622A7B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2D2B-FB1D-401D-A4C9-8922216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A107-6D45-4D52-80A2-873DC04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2267-A320-49BB-9155-73FB5F2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A3AD-B213-49F6-B359-DB1D5827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A6D7B-79C8-486E-8F76-60B23E5B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5625-9689-44B0-89CF-21EC6F5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1ACC-27B0-4488-A702-DB3893ED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9B526-FF91-4751-9804-31CC85CB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540D0-81FD-4CDF-A656-48ECC84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E5D67-9477-4092-94B5-9802D3C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3844F-D46A-4878-815F-E3047A10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D9CDE-A032-4B3C-A5C0-49B38113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0B17D-5C58-4B86-8BA4-8BA34032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944FC-A179-4964-A92F-A1926D4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66B-D087-483D-B192-CCC9345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DFC9D-F50C-4AD4-94EA-6E9B603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7E31C-9496-4497-9B61-ACDE4EC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E9B8B-2877-4D05-B440-F6859DD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ACC72-226B-48AE-8365-1A85BAEB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C34A6-CA91-4D7A-9435-986C9A7D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14D6-6FB0-4C07-97D3-62E138AD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137-F7F3-42BD-B333-71A2B33A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B80F-4BAC-40FF-A640-72A059E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8AC2-E9A1-4EFD-81DA-1FA3058A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B6C7-C3FA-4882-AA18-4D5A470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0FD-5F98-430A-A867-611AED66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058E-2007-4DEC-BD3D-1DDD341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3E1F-1E7F-4875-B796-073FE12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EC5-7471-4440-9C81-855050EB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873-85E6-44E7-B6A7-D2DC63CB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B85-CB8A-4100-905C-2B8D4B70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9F82-0D14-4803-9465-8D502374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24AD-D4E9-4E71-9B33-E048680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3C8E-54D3-4619-BE59-533D2358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7E00-1A53-4BED-B063-C2428E7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9DBE-C44E-4644-8EFE-BAA542A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7A8-F9BE-4089-8DED-75B7A44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5592-347A-4BE2-B85C-F4FB5AF4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8A45-58BB-4D3A-8ECA-8D7EF88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0EFB-5824-42AC-B810-F38DE42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3B92-39E5-495E-9AE5-E535DC1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E0D3-245C-4C7D-B86D-8BC75544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B535-76D9-40CC-9018-F4042841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2FAE-A5E1-454E-B7B4-9758A29D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5335-CB74-4523-BF82-44D43DC7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39A3-6871-4225-94CE-E7CE15B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282D-D563-4925-BDB3-251D413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4CE-3A0B-4C33-B7BC-54FBA36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A734-1B46-4604-A9C1-9B270FA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87C3-0986-455F-B6BB-21E8CDAF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894D-D106-4405-A78B-395CF12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41FE-15D7-4A64-8E48-FD15720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10A2-2854-4666-9344-91B4EA7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5048-5C75-4B43-B3E7-983FEA3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04FC-4FAA-4D5A-B5D6-56C72DF0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64A6-B87B-4BB5-A416-7B0E4638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D6E4-D4D3-424F-B072-B996282D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6163-CCA5-4099-BBFA-600EA718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557-CB2A-417D-9AB4-CE86BE1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E850-8104-4D6D-A1CD-408FA4B1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90A3-C5F0-4A6F-AC20-B588C87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D8C4-1671-403C-BEBF-E7C8BCA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1A4F-98F9-4ABE-A606-54EF8FBA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91DA-5F35-4821-A16F-4014B870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9071-7418-46AD-95E1-F61F32E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C4CF-E0A9-45B0-ADC9-CEDDB37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CE27-D2BA-4D11-8C07-EFECA72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801E-F855-4ACC-8D0A-B673021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46E7-8F23-4E44-96C1-4B816B9B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F05-6024-4A2F-8A92-049DE008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98E9-A558-4D2C-BB17-C27333C1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12695-6CCE-4837-A592-BC70215B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94C8A-277D-4DF2-957E-B18B7B5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F25E-99AE-4FF7-AF5F-F6083A6E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48E3-7C3F-4FC7-916E-42DE774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5CEC-9250-4E6A-9DB2-DAEB66F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44CE-4B13-4373-997C-B7A53C78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70447-2710-4AEA-9BEA-248E5E7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53D2-CA05-4FCE-8907-5608ED6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DD3B-60F9-4034-97FB-D3F3841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1D7-9609-45CC-8264-01D92277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07F3-0D03-4B5F-A236-AC5F950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EF2B-C01D-448C-81C0-211BD759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A8F32-BB7D-42ED-9F73-EC0606A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B8C3A-D6F6-4C63-BDDC-7213425F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FD4D-4C35-4155-9AA1-F7B7432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6F74-5470-498F-8261-D050C1A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0489-4F13-49E2-99FA-C3C3805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AED5-5CAD-4CD9-969F-AA76B20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26E2-6D3C-4940-89C3-1B41F06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7E1D-9AA5-4ECA-A69F-230E79F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421-C2FB-4E17-A4C0-F70AB67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5D58-F131-4714-B7A7-0A0839B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3E26-5A6D-4B2D-AE1A-DFAC94D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E747-C632-4CDA-8A4F-0FE4293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A7A3B-6736-467A-9C08-3CE8928E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1FF5-5000-4C47-A208-EA60F2B1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BEF0E-BFC1-44EE-9A6B-4770D68C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4E8B-B310-4F44-A036-60F2EC5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EF08-3059-4588-98E2-7F9E812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1E33-F7C8-41F6-99DA-4C54AF3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F3BE-89A5-4635-828C-BD9EC14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35B-D09A-4F88-BE66-3DEA249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4B1BB-0A02-4527-8E19-B177F03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1BEA3-84AF-43F3-B4A1-A2822A8D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9A1B-D51D-45FC-8767-3954C5F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56967-FC72-4A07-B4C2-23B7BAF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9954-0C60-420F-AEEC-3812957B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1550-45B2-4192-86DA-BDFB0993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F39E4-A320-4497-A396-788B82B9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F0C9A-48CC-4D62-BE06-1944D39A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2959B-B1F1-4186-BB73-91105AE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727CE-2D73-4311-9CAD-ACD3430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9E8-67CC-45F4-A32F-63D48818633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5A6-C7F3-43C4-9756-46D88DEEDD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422-3003-4B7E-9B3B-77A3516081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B1E8-AD3E-47B1-A798-A0745FCF309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CDA1-A11F-4B6F-9C8D-119ED5ADA5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DC79-8758-41B6-9F79-DB4F749C9D5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92F-3C96-46DF-A1EB-5E4C097DF2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C08-E18C-40A7-B664-E4975E1A88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00D1-AFA2-4002-9C79-591523F4CC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7E0-871A-42E0-8570-D5DB04D86F8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510-BE06-444B-9DA7-9E439B303BA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8595-DF52-4AAD-8D6C-5ED558C92F3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CCESS INFORMATION FROM A  VARIETY OF PRIMARY AND SECONDARY SOURCES TO GATHER INFORMATION FOR RESEARCH TOPIC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imary and Secondary Sourc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C:\Documents and Settings\maxweel\Local Settings\Temporary Internet Files\Content.IE5\OP2NO5QV\MPj04307290000[1].jpg"/>
          <p:cNvPicPr/>
          <p:nvPr/>
        </p:nvPicPr>
        <p:blipFill>
          <a:blip r:embed="rId1"/>
          <a:stretch/>
        </p:blipFill>
        <p:spPr>
          <a:xfrm>
            <a:off x="5867280" y="3733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2" descr="http://www.iafflocal469.org/pics/History%20Book%20web.jpg"/>
          <p:cNvPicPr/>
          <p:nvPr/>
        </p:nvPicPr>
        <p:blipFill>
          <a:blip r:embed="rId1"/>
          <a:stretch/>
        </p:blipFill>
        <p:spPr>
          <a:xfrm>
            <a:off x="2362320" y="1523880"/>
            <a:ext cx="44956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2" descr="http://www2.scholastic.com/content/media/products/49/0516264249_xlg.jpg"/>
          <p:cNvPicPr/>
          <p:nvPr/>
        </p:nvPicPr>
        <p:blipFill>
          <a:blip r:embed="rId1"/>
          <a:srcRect l="8200" t="0" r="8200" b="0"/>
          <a:stretch/>
        </p:blipFill>
        <p:spPr>
          <a:xfrm>
            <a:off x="2743200" y="1523880"/>
            <a:ext cx="38862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are Primary Source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imary sources are actual records that have survived from the past, such as letters, photographs, articles of clothing” (Library of Congress 2002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source is factual, not interpretiv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ports of scientific discoveri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Oral history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Social and political science research results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Diaries &amp; journal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Newspapers-can be primary or secondary sourc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2" marL="1097280" indent="-21924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newspaper article on slavery written in 1860 would be a primary source document.  An article written today on slavery would be a secondary source document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hotographs, maps, and postcards-maps are primary sources because they are created in a particular cultural context.  Mapmakers may have hidden agendas or influenced by social and political factors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corded or transcribed speech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alia/Artifacts-Jewelry, Cards and Board Games, Needlework, Leathergoods, clothes, textil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condary 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ary sources are accounts of the past created by people writing about events sometime after they happened” (LOC 2002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ary Sources interpret and analyze primary 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-hand account of an historical ev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alysis and interpretation of research resul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iograph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wspapers can be primary and secondary 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story boo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views for boo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p 141.tif"/>
          <p:cNvPicPr/>
          <p:nvPr/>
        </p:nvPicPr>
        <p:blipFill>
          <a:blip r:embed="rId1"/>
          <a:srcRect l="3134" t="27778" r="15393" b="27706"/>
          <a:stretch/>
        </p:blipFill>
        <p:spPr>
          <a:xfrm>
            <a:off x="1371600" y="609480"/>
            <a:ext cx="66294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p 146.tif"/>
          <p:cNvPicPr/>
          <p:nvPr/>
        </p:nvPicPr>
        <p:blipFill>
          <a:blip r:embed="rId1"/>
          <a:srcRect l="16836" t="11113" r="3858" b="49209"/>
          <a:stretch/>
        </p:blipFill>
        <p:spPr>
          <a:xfrm>
            <a:off x="1600200" y="762120"/>
            <a:ext cx="6095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 144.tif"/>
          <p:cNvPicPr/>
          <p:nvPr/>
        </p:nvPicPr>
        <p:blipFill>
          <a:blip r:embed="rId1"/>
          <a:srcRect l="20802" t="44446" r="9385" b="16667"/>
          <a:stretch/>
        </p:blipFill>
        <p:spPr>
          <a:xfrm>
            <a:off x="1752480" y="762120"/>
            <a:ext cx="57913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S IT A PRIMARY OR SECONDARY SOURCE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What have you touched since you left school last night?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http://www.topicsites.com/abraham-lincoln/Abraham-Lincoln-bw13.jpg"/>
          <p:cNvPicPr/>
          <p:nvPr/>
        </p:nvPicPr>
        <p:blipFill>
          <a:blip r:embed="rId1"/>
          <a:stretch/>
        </p:blipFill>
        <p:spPr>
          <a:xfrm>
            <a:off x="3048120" y="1600200"/>
            <a:ext cx="31240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2" descr="http://www.tpet.com/img/productImages/Anne-Frank-Book.jpg"/>
          <p:cNvPicPr/>
          <p:nvPr/>
        </p:nvPicPr>
        <p:blipFill>
          <a:blip r:embed="rId1"/>
          <a:stretch/>
        </p:blipFill>
        <p:spPr>
          <a:xfrm>
            <a:off x="3048120" y="1600200"/>
            <a:ext cx="3124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52:53Z</dcterms:created>
  <dc:creator>maxweel</dc:creator>
  <dc:description/>
  <dc:language>en-US</dc:language>
  <cp:lastModifiedBy>Home</cp:lastModifiedBy>
  <dcterms:modified xsi:type="dcterms:W3CDTF">2009-11-17T11:32:06Z</dcterms:modified>
  <cp:revision>38</cp:revision>
  <dc:subject/>
  <dc:title>Standard 5.1b</dc:title>
</cp:coreProperties>
</file>